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02D-BB81-4DCC-B0A4-FD62DAA9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9422-4621-4B38-8837-ADC439EE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3BA-A35A-4F21-AA3A-ACA3943D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CDE-AB2A-4D78-AA13-E57E9129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0BE8-D544-41B7-B0E9-92F6B0BA0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2D2B-A149-4E0D-96EA-9205C007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9413-6767-4E23-9E66-A77A4426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9D8D7-13CB-4D04-973E-46C09C12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51C1-64F0-4BF2-A84E-51446BD7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F59F-7B97-4B4F-9176-3E3627F9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A423-DB63-42ED-8A5C-27072ED1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3A3-7990-4D0A-A19D-17CBC18E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259E-F0CD-49EB-B23C-91C1B020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DCC8-5EAF-42F5-AC81-118C2181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0844-6909-4F2C-B68A-8E47800A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5C51-0752-4791-9141-CC50FC75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9F9D-B322-4140-BE66-72F1F8C3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67B-0E68-48A0-BE30-AFD9BDF1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AE5-39B1-4211-BBF0-9E0EC8B5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2B1-92DA-4C00-BBC1-A638F9DF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0B5E-9FE7-4CA0-9E46-17065342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1DF-123F-42BD-8B68-43AC4285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FF47-A106-4001-B47F-E57FB9EE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65E5-0E57-426B-A73F-81802871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2669-60E7-416F-AF9E-24A027C4C9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9F86-68C9-4A3B-A914-7532959BB0D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812f"/>
                </a:solidFill>
                <a:latin typeface="Garamond"/>
              </a:rPr>
              <a:t>Chapter 10</a:t>
            </a:r>
            <a:r>
              <a:rPr b="0" lang="en-US" sz="3000" spc="-1" strike="noStrike">
                <a:solidFill>
                  <a:srgbClr val="006633"/>
                </a:solidFill>
                <a:latin typeface="Garamond"/>
              </a:rPr>
              <a:t> – Parents &amp; Childbearing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stage that brings about more profound change or challenge to the nuclear and extended family than the addition of a new child to the family system” (Holloway, 2003, p.3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afbf39"/>
                </a:solidFill>
                <a:latin typeface="Arial"/>
              </a:rPr>
              <a:t>Normative ev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n event that occurs naturally in the course of a person’s lif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 This stage the couple must alter their relationship as a couple to make room for child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Couple  Clip Art"/>
          <p:cNvPicPr/>
          <p:nvPr/>
        </p:nvPicPr>
        <p:blipFill>
          <a:blip r:embed="rId1"/>
          <a:stretch/>
        </p:blipFill>
        <p:spPr>
          <a:xfrm>
            <a:off x="3429000" y="4419720"/>
            <a:ext cx="221616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830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543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0769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ent-Child Relationship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ildren who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do no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have a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secur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ttachment may remain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cially and emotionally underdevelopment into adulthoo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y have difficulty with trust, empathy, self-esteem &amp; successful relationships for the rest of their liv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sensitivity to children’s needs may cause some areas of the brain to overdevelop, which leads to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nse rag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xiety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pulsivenes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disposition to violenc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46556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ental Rol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 generations relied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rm disciplinary pract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questioning obed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their children due to the difficult times in which they li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, parents use a more democratic strategy in paren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bination o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contr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 communication between parent &amp; chi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s of affection are the n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enting Styl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rth Americans value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 individualism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competi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independe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s has led to parents raising their children to become mor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independent and self-relia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rather than focusing on family ties and commitments to the larger family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contrast, in other cultures families encourage co-operation, sharing, reciprocity, obligation, and interdependence of the larger family and kinship networ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milies develop a shared view of the world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he family inside &amp; outside of family boundaries is organiz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embers relate to one ano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he family treats the environment surroundi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enting Styl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views change over time by new outside factors,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, social or work experiences, family cri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only held view is that families have a direct impact on parenting and parent-child relationships (ex. parents who value career and work success highly place a different value on family time and time with their individual children than those who place less value on work suc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ree Types of Parenting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ative Parenting – focus on warmth, support, acceptance, and indirect positive control of the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arian Parenting – more parental control and use of reward &amp; punis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ssive Parenting – few rules &amp; the children control family situ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 Closer Look at these 3 Types of Parenting Styles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ildren raised by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authoritativ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parents ar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better adjusted psychologically and have a better self-concep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ildren raised by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authoritari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ents use more physical punishment, which has been shown to negatively affect the child’s adjustment, especially if severe &amp; frequent. These children feel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reject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y their  parents &amp; have more problems with psychological adjustmen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ildren raised by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permissive parent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end to be mor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irresponsible, impulsive and immatur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They might also b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flighty, anxious &amp; emotionally impoverish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timum parenting is a balance between over-control and permissivenes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Key Questions Emerge for Parent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3848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ll the child be cared fo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roles will they play as primary caregiv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else will be included in the child car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ll they divide the new roles and responsibilities (discipline,  household task, etc.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1320" y="1676520"/>
            <a:ext cx="24192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 Closer Look at these 3 Types of Parenting Styles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tors that inhibit parents from showing the consistent warmth, support and effective discipline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economic hardshi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arital conflic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flic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ween spouse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garding parenting styl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hree greatest challeng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parents is to balance between these three issues: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isciplin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unishm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guida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arbara Coloroso’s Parenting Styl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tbook – pg 322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ck Wal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llyfis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enthood Within the Larger Society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arenting / socialization within the larger society extends to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ighbourhoods, extended family, ethnic background, work situations, social networks, socio-economics, siblings, aunts &amp; uncles, peers, teachers, athletes, celebrities and so on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Reference Group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– groups of people with whom one identifie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ildren might become part of a team or club or want to be part of a team (ex. Favourite NHL Team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ildren who are new immigrants might take on the values of a new country sooner than the adults do (can create conflict with parents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Changing Family Structure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is clear that th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percentage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f children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living in lone-pare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amilies ar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increas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while th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ag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t which they do so i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decreas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nder plays an important role in parental involvemen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Father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regardless of where they live,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tend to be less involv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ith their children than mothers ar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Divorced father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end to see their children infrequently and their lack of contact increases over tim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ildren born to a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common-law union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three time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more likely to have to deal with th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break-up of their parent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Systems theor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suggest that the removal of the father from the home affects the dynamics of the entire househol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Constructiv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onflicts vs.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destructiv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onflic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ents, Work &amp; Child Development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milies are now dual in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ada has a national funded maternity &amp; parental leave system that allows parents access to employment insurance to support staying home to care for inf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s Can shows that today’s parents spend less time with their children than any family surveyed in the past 60 ye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recent survey suggests that what children want the most from their parents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loway, Maureen, Holloway,G., Witte, J. (2003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dividuals and Families in a Diverse Society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Graw-Hill Ryerson., Toro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velopmental Task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 new 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up a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n self-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gotiate work/personal/family 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otiate roles as primary careg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gotiate household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86400" y="1873080"/>
            <a:ext cx="320040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9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hanges that Come to Coupl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d in marital satisfaction – raising a child is very time consuming and lack of time together is the largest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a temporary d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situation changes – new costs, short term (diapers) &amp; long term (tui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rding to researchers Demo &amp; Cox (2000), the better your marriage is before kids, the more likely you’ll be good after ki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371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077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ent-Child Relationship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hment relationship between mother &amp; chil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hment is defined as the behaviours that represent the need of the infant to attain and maintain proximity &amp; protection with an available &amp; responsive caregi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her-child relationship is the foundation for personality growth, since the mother was the infant’s first love relationship &amp; the model for all future 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lationship with the mother was positive, the likelihood of successful relationship in their future was str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93348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ent-Child Relationship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ant attachment to the primary caregiver, usually the mother, is seen to be essential for normal child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k Erik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ization is a process that lasts a life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ht stages of development – each involving a crisis brought on by the changing social sit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ancy – trust versus mistr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 is developed when the infant's needs are met – depending on how well the quality of care the infant receiv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18288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rent-Child Relationship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using strangers for infants between ages 6 to 24 months to test attachment to their par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nger enters – securely attached infants heads for their par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nger enters – insecurely attached infants will avoid or resist the par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udies have found that fathers of secure infants were more extroverted and agreeable, had higher levels of self-esteem and marriages that were more positiv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se fathers had positive work and family boundarie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thers that bond during pregnancy, tend to be more caring, nurturing, child-oriented and affectionat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103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blems for “new” fath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rol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societ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abysitting not pare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competent dad jo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ess understanding work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ck of change tables in wash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 have become more overloaded with life-work conflict than ever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0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9T13:56:51Z</dcterms:created>
  <dc:creator>OCDSB User</dc:creator>
  <dc:description/>
  <dc:language>en-US</dc:language>
  <cp:lastModifiedBy>OCDSB User</cp:lastModifiedBy>
  <dcterms:modified xsi:type="dcterms:W3CDTF">2011-05-25T12:53:07Z</dcterms:modified>
  <cp:revision>30</cp:revision>
  <dc:subject/>
  <dc:title>Chapter 10 – Parents &amp; Childbearing</dc:title>
</cp:coreProperties>
</file>